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91BF-716E-47C0-8FCB-CD884D2E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994-3C90-4FBC-993C-E488B10D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10D-216D-453C-8C4E-7F40B662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AD7-B2B9-4EF6-8AB3-1F6F5B4F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214B-AA1D-4CE3-960A-689E9ABC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1D22-B5B2-4231-997A-9FD24706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06FF-6C82-4274-8321-00B0240E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D5C-4C10-4239-91EF-E3F3F906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C2A7-393B-4341-B7B6-7046868A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4118-9EA1-41C7-99E2-CB0D9E28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DC64-6782-48CA-836A-00C393EF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10F-F584-4B8C-A548-4EAD615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22D0-35E4-4BED-8766-72F122D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FBB-D272-4937-8512-1A03801B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800C-D2B3-4A66-B4A3-6174E5D0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152-34F8-4835-BEDE-4C2B0714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6847-72DD-44EB-9CF1-888EC86B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BE7-548A-4203-BC21-A3C0041B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B43-2C45-4D53-AF5B-478BEA95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E78-4562-4B70-8887-277B4431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510-6A94-47A9-A4E0-44648152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977-9392-4C2B-A10D-C357C64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7A4-73E4-4B83-AFE2-A2828231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2B9-A29B-46D3-B21D-04EF981A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997-1E73-4582-BABE-5933EA918E7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951A-6CF7-449C-B2FD-56ADE687A510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6842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Méthodes de </a:t>
            </a:r>
            <a:br>
              <a:rPr sz="4800"/>
            </a:br>
            <a:r>
              <a:rPr b="0" lang="fr-BE" sz="4800" spc="-1" strike="noStrike">
                <a:solidFill>
                  <a:srgbClr val="000000"/>
                </a:solidFill>
                <a:latin typeface="Arial"/>
              </a:rPr>
              <a:t>Recherche Qualitative en Scienc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634920" y="3284280"/>
            <a:ext cx="4969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800" spc="-1" strike="noStrike">
                <a:solidFill>
                  <a:srgbClr val="000000"/>
                </a:solidFill>
                <a:latin typeface="Arial"/>
              </a:rPr>
              <a:t>Une 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800" spc="-1" strike="noStrike">
                <a:solidFill>
                  <a:srgbClr val="000000"/>
                </a:solidFill>
                <a:latin typeface="Arial"/>
              </a:rPr>
              <a:t>20/09/0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Gautier Pir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hargé de Cours – Institut de Sc. Humaines et Sociales (UL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Positivisme (A. COMTE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8560" y="1905120"/>
            <a:ext cx="74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Etablir des lois du comportement humain par la stricte observation de faits objectivables. (Nomologie + Fai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Passer du « pourquoi ? » (savoir théologique ou métaphysique) au « comment ? »(positivis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Loi des 3 états de la pensée (A. Com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// Sociologie et sciences naturel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Approche compréhens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ILTH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e but des « sciences de l’Esprit » n’est pas d’expliquer mais de comprendr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l faut partager la vie des acteurs sociau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2 postul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a radicale hétérogénéité entre les faits humains ou sociaux et les faits des sciences naturel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a capacité de tout un chacun à pénétrer le vécu et le ressenti d’un autre individ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hilosophie : </a:t>
            </a:r>
            <a:r>
              <a:rPr b="0" i="1" lang="fr-BE" sz="2600" spc="-1" strike="noStrike">
                <a:solidFill>
                  <a:srgbClr val="000000"/>
                </a:solidFill>
                <a:latin typeface="Arial"/>
              </a:rPr>
              <a:t>La phénoménologi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de Karl HUSSERL. Chercher le sens et non l’explication car l’explication cache le s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ociologie : L’approche compréhensive (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erstehen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) de Max WEBER. Retrouver le sens des actions pour l’acteur lui-même (typologie de l’action sociale : émotionnelle/traditionnelle/rationnelle en intérêt/rationnelle en valeu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Pertinence : Point de vue épistémolog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Le rapport à l’objet d’étude est souvent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Holiste : on envisage au départ la situation dans sa globalité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Proximal : la distance par rapport au phénomène étudié est des plus rédui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irecte : la médiation avec les sujets de l’étude s’effectue à travers le langage commun, sans moyen techniq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Interprétatif : le plus souvent on cherche le sens des vécus et des événemen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Pertinence. Point de vue méthodologiqu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émarche compréh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000" spc="-1" strike="noStrike">
                <a:solidFill>
                  <a:srgbClr val="000000"/>
                </a:solidFill>
                <a:latin typeface="Arial"/>
              </a:rPr>
              <a:t>Compréhension des phénomènes, profond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émarche indu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Contact prolongé avec le terrain permet la compréh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émarche récur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Répétition possible des étapes de la reche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émarche souple, adapt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as codifiée de manière rigide mais capable de s’adapter aux aléas de l’enquê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5 Caractéristiq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Démarche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compréhen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éthodes </a:t>
            </a: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indu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urs à des techniques de récolte de données n’impliquant aucune quantific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Recours à des techniques d’analyse de données sans opération numér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00000"/>
                </a:solidFill>
                <a:latin typeface="Arial"/>
              </a:rPr>
              <a:t>Théorisation par le terr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Quantitatives Vs Qualita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259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ts clés :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ntrôle, éten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roche des sciences na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bjectivité, capacité de généralisation et caractère reproductible sont au cœur de la dém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 de la vé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On sait assez précisément ce qui sera signific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8000" y="1628640"/>
            <a:ext cx="4038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Mots clés : </a:t>
            </a:r>
            <a:r>
              <a:rPr b="1" lang="fr-BE" sz="2400" spc="-1" strike="noStrike">
                <a:solidFill>
                  <a:srgbClr val="000000"/>
                </a:solidFill>
                <a:latin typeface="Arial"/>
              </a:rPr>
              <a:t>Compréhension, profond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pproche ethnologique et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ractéristiques secondaires de la démarche qual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ogique de la découv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 priori, tout peut être signific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Quantitatives Vs Qualita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905120"/>
            <a:ext cx="427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exte posé (fix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rôle des variables a pr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herche à établir des « relations causales » et des « corrélation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cédures codifiées et fi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 complexe est sublimé (ou nié 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宋体"/>
              </a:rPr>
              <a:t>Les données sont considérées comme discrè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764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exte appréhen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ntrôle des variables a poster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térêt pour la « causalité » locale circulaire et symbol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Procédure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réhension et présentation de la complex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  <a:ea typeface="宋体"/>
              </a:rPr>
              <a:t>Les données sont considérées comme étant « rich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Généralité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905120"/>
            <a:ext cx="770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s objets appréhendés sont souvent uniques, non reproduct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mplique un contact personnel et prolongé avec le milieu social étudi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nstruction de la problématique demeure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méthodologie s’élabore au fil du « terrain 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 collecte et l’analyse des données ne sont pas des étapes séparé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e principal outil de la recherche : le cherche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Techniques qualitatives de recueil de données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200" spc="-1" strike="noStrike">
                <a:solidFill>
                  <a:srgbClr val="000000"/>
                </a:solidFill>
                <a:latin typeface="Arial"/>
              </a:rPr>
              <a:t>Observation (participante ou non) ; entretien non directif ; entretien semi directif ; entretien de groupe et focus group ; collecte de documents ; journal de bord ; méthodes projectives ; vidéo, photos, productions artistique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200" spc="-1" strike="noStrike">
                <a:solidFill>
                  <a:srgbClr val="000000"/>
                </a:solidFill>
                <a:latin typeface="Arial"/>
              </a:rPr>
              <a:t>Techniques qualitatives d’analyse de données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 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BE" sz="2200" spc="-1" strike="noStrike">
                <a:solidFill>
                  <a:srgbClr val="000000"/>
                </a:solidFill>
                <a:latin typeface="Arial"/>
              </a:rPr>
              <a:t>Analyse phénoménologique ; analyse qualitatives de théorisation ; analyse des besoins ; analyse de conversations, etc.</a:t>
            </a:r>
            <a:r>
              <a:rPr b="0" lang="fr-B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Techniques qualitatives de collec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Arial"/>
              </a:rPr>
              <a:t>Souvent régies par un principe de non-directivité (sur le fon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Arial"/>
              </a:rPr>
              <a:t>Adaptation in si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000" spc="-1" strike="noStrike">
                <a:solidFill>
                  <a:srgbClr val="000000"/>
                </a:solidFill>
                <a:latin typeface="Arial"/>
              </a:rPr>
              <a:t>Réflexivité du chercheur nécessaire. Qualité de la recherch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Techniques qualitatives d’analy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ouvent délaissées par les chercheurs et étudian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Souvent on se contente d’une analyse thématique et d’une énonciation de typologi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Multiples techniques + raffiné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= « </a:t>
            </a:r>
            <a:r>
              <a:rPr b="0" i="1" lang="fr-BE" sz="2600" spc="-1" strike="noStrike">
                <a:solidFill>
                  <a:srgbClr val="000000"/>
                </a:solidFill>
                <a:latin typeface="Arial"/>
              </a:rPr>
              <a:t>une démarche discursive et signifiante de reformulation, d’explicitation ou de théorisation d’un témoignage, d’une expérience ou d’un phénomène</a:t>
            </a:r>
            <a:r>
              <a:rPr b="0" lang="fr-BE" sz="2600" spc="-1" strike="noStrike">
                <a:solidFill>
                  <a:srgbClr val="000000"/>
                </a:solidFill>
                <a:latin typeface="Arial"/>
              </a:rPr>
              <a:t> » (P. Paillé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200" spc="-1" strike="noStrike">
                <a:solidFill>
                  <a:srgbClr val="000000"/>
                </a:solidFill>
                <a:latin typeface="Arial"/>
              </a:rPr>
              <a:t>Approche positiviste versus Approche compréhens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000" spc="-1" strike="noStrike">
                <a:solidFill>
                  <a:srgbClr val="000000"/>
                </a:solidFill>
                <a:latin typeface="Arial"/>
              </a:rPr>
              <a:t>Désintérêt initial pour les méthodes qualitatives dans les sciences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Dépendent trop des qualités du cherch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s de mesures, de la littér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Pas explicatif mais compréhens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Ne permet pas la définition de lo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7T13:40:20Z</dcterms:created>
  <dc:creator>PIROTTE</dc:creator>
  <dc:description/>
  <dc:language>en-US</dc:language>
  <cp:lastModifiedBy>Sophie</cp:lastModifiedBy>
  <dcterms:modified xsi:type="dcterms:W3CDTF">2006-09-14T15:57:53Z</dcterms:modified>
  <cp:revision>4</cp:revision>
  <dc:subject/>
  <dc:title>Méthodes de  Recherche Qualitative en Sciences Sociales</dc:title>
</cp:coreProperties>
</file>